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ct" ContentType="image/x-pict"/>
  <Override PartName="/ppt/media/image10.pct" ContentType="image/x-pict"/>
  <Override PartName="/ppt/media/image9.pct" ContentType="image/x-pict"/>
  <Override PartName="/ppt/media/image1.pct" ContentType="image/x-pict"/>
  <Override PartName="/ppt/media/image4.png" ContentType="image/png"/>
  <Override PartName="/ppt/media/image15.pct" ContentType="image/x-pict"/>
  <Override PartName="/ppt/media/image2.pct" ContentType="image/x-pict"/>
  <Override PartName="/ppt/media/image5.png" ContentType="image/png"/>
  <Override PartName="/ppt/media/image16.pct" ContentType="image/x-pict"/>
  <Override PartName="/ppt/media/image14.pct" ContentType="image/x-pict"/>
  <Override PartName="/ppt/media/image3.png" ContentType="image/png"/>
  <Override PartName="/ppt/media/image6.pct" ContentType="image/x-pict"/>
  <Override PartName="/ppt/media/image11.pct" ContentType="image/x-pict"/>
  <Override PartName="/ppt/media/image7.jpeg" ContentType="image/jpeg"/>
  <Override PartName="/ppt/media/image8.pct" ContentType="image/x-pict"/>
  <Override PartName="/ppt/media/image13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B169-A7D5-481E-882B-35AFC3AD9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52AF-AFFD-4A0A-9911-603FF430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66F6-3321-4ADB-BCFB-78EEF9F82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53E5-6DD3-4B1A-B390-A32FEA53F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723C-A9E7-47C4-90A3-23EC73BD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82E3-21C7-4044-AD84-18B6AA3A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E365-0F38-4DC1-A7D0-E4A5B68E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FEEC-AC1C-4B78-917C-4EDAD9C4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BAB5-E770-4A17-893E-68B89741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11AD-3A00-43F4-9535-703B8369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38E6-B61E-4D3C-B59D-148E8C11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2CDF-DED5-49FC-82C5-AE0122C9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AB3D-9402-42E7-A836-0C2B8B70B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obofoundry.org/ro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obo.sourceforge.net/" TargetMode="External"/><Relationship Id="rId2" Type="http://schemas.openxmlformats.org/officeDocument/2006/relationships/hyperlink" Target="http://www.obofoundry.org/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yuri.lbl.gov:9000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lybase.org/" TargetMode="External"/><Relationship Id="rId2" Type="http://schemas.openxmlformats.org/officeDocument/2006/relationships/hyperlink" Target="http://www.wormbase.org/" TargetMode="External"/><Relationship Id="rId3" Type="http://schemas.openxmlformats.org/officeDocument/2006/relationships/hyperlink" Target="http://www.yeastgenome.org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ntology-oriented databases: Chado and OB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</a:rPr>
              <a:t>Chris Mungal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Lawrence Berkeley Lab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rigins of Chado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do was originally developed for FlyBa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gration of GadFly (Berkeley) and previous FlyBase databas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do later adopted by GMOD and other some individual MO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pular amongst ‘newer’ MODs; eg Parameciu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so used outside MOD commun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IG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enalia Farm Research Campus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hado key concept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ightly Integrate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eign key relations between entit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ntrast with federated mod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dule Syste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ew modules can be ‘slotted in’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me modules are mandator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eric and extensib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s ontologies and terminologies for typ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y normalis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unity &amp; open sour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hado modul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Gill Sans"/>
              </a:rPr>
              <a:t>gener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dbxref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Gill Sans"/>
              </a:rPr>
              <a:t>cv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ontologie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ub (bibliographic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udi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mai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Gill Sans"/>
              </a:rPr>
              <a:t>sequenc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genomic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A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hylogen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rganis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Identifiers: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dbxref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l public records identified using bipartite sche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 just external cross-referen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B Authority must be specifi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istinct tabl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Can be associated with URI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(db, accession, version[optional]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rds can also get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econdar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bxref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:0000001, FlyBase:FBgn0000001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162920" y="2438280"/>
            <a:ext cx="165096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ntologies and terminologies are central to Ch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ntology - A formal representation of some portion of biological re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05720" y="4648320"/>
            <a:ext cx="1371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3200400"/>
            <a:ext cx="3124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kind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of things exi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4419720"/>
            <a:ext cx="3200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are th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relationship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between these thing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6095880"/>
            <a:ext cx="22860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ommati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00800" y="30481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nse or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38480" y="3352680"/>
            <a:ext cx="167652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di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391520" y="3657600"/>
            <a:ext cx="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5028840" y="4267080"/>
            <a:ext cx="1676520" cy="60984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791320" y="5257440"/>
            <a:ext cx="1523880" cy="7621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76400" y="38703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54864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_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30280" y="449568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43000" y="4419720"/>
            <a:ext cx="243828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ntologies: cv modul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ased on GO DB Schema and OBO format spe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2666880"/>
            <a:ext cx="39621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y 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cvterm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a term, or class in an ontolo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cvterm_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ubject-predicate-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Cv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an ontology or terminolog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32320" y="3581280"/>
            <a:ext cx="471168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7086600" cy="6337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7240" y="3124080"/>
            <a:ext cx="14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se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34120" y="2209680"/>
          <a:ext cx="3581280" cy="1335240"/>
        </p:xfrm>
        <a:graphic>
          <a:graphicData uri="http://schemas.openxmlformats.org/drawingml/2006/table">
            <a:tbl>
              <a:tblPr/>
              <a:tblGrid>
                <a:gridCol w="1295280"/>
                <a:gridCol w="990720"/>
                <a:gridCol w="1295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_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nscript reg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nscript reg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t_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nscri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Genomics: Sequence modul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key concepts (a subset)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eatur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 genomic entity (gene, intron, SNP, chromosome, ..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eatureloc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 relative location in sequence coordinat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eature_relationshi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 pairwise relation between two featur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45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.g. exon to transcrip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eaturepro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ag-value data for a featur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eature_cvter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ntology-based annot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Feature tabl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eatures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sequenc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quence ar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independent entit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mbedded in feature tab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ll features reside in same tab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es, exons, chromosomes, SNPs, .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ed using Sequence Ontology (SO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ptional extra: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Automatically generat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SQL view lay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467480" y="1752480"/>
            <a:ext cx="14223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4051440" cy="42670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Feature Graphs: the </a:t>
            </a:r>
            <a:r>
              <a:rPr b="0" lang="en-US" sz="4400" spc="-1" strike="noStrike">
                <a:solidFill>
                  <a:srgbClr val="000000"/>
                </a:solidFill>
                <a:latin typeface="American Typewriter"/>
              </a:rPr>
              <a:t>feature_relationship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tabl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52320" y="2057400"/>
            <a:ext cx="5410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eature graphs (FG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ubject-predicate-objec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edicates (types) are cvter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had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MOD &amp; Model Organism Datab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ics data in Chado using S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B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CBO &amp; OBD Requirem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DF and the semantic web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PARQL endpoi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Example: alternately spliced gen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743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7 featur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 ge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2 transcrip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4 ex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267080" y="4952880"/>
            <a:ext cx="4381560" cy="105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3505320" y="2057400"/>
          <a:ext cx="5029200" cy="2425680"/>
        </p:xfrm>
        <a:graphic>
          <a:graphicData uri="http://schemas.openxmlformats.org/drawingml/2006/table">
            <a:tbl>
              <a:tblPr/>
              <a:tblGrid>
                <a:gridCol w="1752480"/>
                <a:gridCol w="1295280"/>
                <a:gridCol w="1981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edic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(transcri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t_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 (ge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 (transcri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t_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 (ge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(ex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t_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(transcri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(ex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t_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 (transcri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 (ex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t_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(transcri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 (ex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t_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 (transcri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 (ex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t_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(transcri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457200" y="4343400"/>
            <a:ext cx="2743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ot show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lypept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Feature graph configurations are constrained by SO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 determines ontological relations between featur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g: Exon part_of transcrip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ndard rules for is_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.g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is_a Y, Y part_of Z =&gt; X part_of Z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e OBO Relation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ww.obofoundry.org/r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les must be encoded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outsid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standard relational schem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Declarative programming: SQL Funct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werful, but option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tgreSQL on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an be port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paration of interface from implement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quence oper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ranscription, transl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eature Graph oper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eduction of implicit features (eg introns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cation Graph oper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rojection, mereological relatio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lated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"/>
          <p:cNvSpPr/>
          <p:nvPr/>
        </p:nvSpPr>
        <p:spPr>
          <a:xfrm>
            <a:off x="1804320" y="5667480"/>
            <a:ext cx="780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ta S, Patel JM, Friedman JS, and Swaroop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larative querying for biological sequence datab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c of the 22nd International Conference on Data Engineering (ICDE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pril 3-7, Atlanta, GA, 200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hado: ongoing work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do for phenotype (EQ)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FlyBase, ZFIN, DictyBas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do for evolutionary sci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 collaboration with NESC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cumentation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lpdesk (NESCENT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re GMOD integr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nified Architecture for GMOD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atest Obo format featur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low for post-composition of complex ter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NCBO: OBO and OBD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BO: Open Bio Ontolog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obo.sourceforge.ne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www.obofoundry.or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CBO BioPortal; access to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BO ontolog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BD annot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urrent DBP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ly &amp; fish mutant phenotype annot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inking to diseas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V Clinical trial analysi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BD: Storing biomedical annotat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quirements different from Chad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main scop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l of biology and biomedic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tologies used for anno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 just OB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ata integr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minimum amount of dat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nk to external data where appropria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vide and use data servi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quirements partially met by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emantic web technolog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Semantic Web Datamodel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ased on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RDF tri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ubject-predicate-objec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ach element is a </a:t>
            </a: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URI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Various serialisation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DF/XM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3, N-Tripl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ultiple APIs, QLs and storage op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DF Graphs constrained b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ontolog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ressed in RDF Schema, OW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10080" y="457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BD ‘Schema’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formal ontology of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nnota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4954680" cy="6400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861880" y="4952880"/>
            <a:ext cx="298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in OBO Found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uses OBO upper 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Implementing OBD using SemWeb technolog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BD-Ses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3rd party triplestor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lational or in-memor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acks native OWL suppo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rformance issu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BD-SQ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veloped at Berkele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use Chado methodology, cod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iplestore’ with extr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educes triple overhead with common patter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Wrapping databases as SPARQL endpoint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lot of data in existing relational databases like Chad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al: make available as distributed resourc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in OBD compliant wa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lution: d2rq declarative mappings and SPARQ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ogres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 Database SPARQL endpoint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yuri.lbl.gov:9000/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ado and OBD mappings coming so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lication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gration of annotations through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genome dashboar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hado: what is it?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relational database schema for biological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t of the Generic Model Organism Database (GMOD) projec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ttp://www.gmod.or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operable tools for Model Organism Databas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do was originally built for MO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5915160" cy="3506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09480" y="5410080"/>
            <a:ext cx="838440" cy="7621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5410080"/>
            <a:ext cx="838080" cy="7621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9880" y="5638680"/>
            <a:ext cx="838440" cy="7621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5638680"/>
            <a:ext cx="838080" cy="7621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6156360"/>
            <a:ext cx="135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no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080" y="5851440"/>
            <a:ext cx="166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ease/ph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no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55800" y="6461280"/>
            <a:ext cx="173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om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8000" y="624852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4952880"/>
            <a:ext cx="838080" cy="3812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2r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5880" y="5257800"/>
            <a:ext cx="838440" cy="380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2r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5181480"/>
            <a:ext cx="838080" cy="3812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33720" y="5105520"/>
            <a:ext cx="1066680" cy="380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s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2640" y="38160"/>
            <a:ext cx="76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age scenario: AJAX Gbrowse (http://genome.biowiki.or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762120" y="1600200"/>
            <a:ext cx="3962160" cy="3200400"/>
          </a:xfrm>
          <a:prstGeom prst="line">
            <a:avLst/>
          </a:prstGeom>
          <a:ln w="25560">
            <a:solidFill>
              <a:srgbClr val="0000ff">
                <a:alpha val="62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8320" y="1219320"/>
            <a:ext cx="1447560" cy="685800"/>
          </a:xfrm>
          <a:prstGeom prst="wedgeRectCallout">
            <a:avLst>
              <a:gd name="adj1" fmla="val -46050"/>
              <a:gd name="adj2" fmla="val 56712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Anno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590920" y="1752480"/>
            <a:ext cx="2286000" cy="3276720"/>
          </a:xfrm>
          <a:prstGeom prst="line">
            <a:avLst/>
          </a:prstGeom>
          <a:ln w="25560">
            <a:solidFill>
              <a:srgbClr val="0000ff">
                <a:alpha val="62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343400" y="2666520"/>
            <a:ext cx="304920" cy="2514600"/>
          </a:xfrm>
          <a:prstGeom prst="line">
            <a:avLst/>
          </a:prstGeom>
          <a:ln w="25560">
            <a:solidFill>
              <a:srgbClr val="0000ff">
                <a:alpha val="62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5486040" y="1828440"/>
            <a:ext cx="1066680" cy="3429000"/>
          </a:xfrm>
          <a:prstGeom prst="line">
            <a:avLst/>
          </a:prstGeom>
          <a:ln w="25560">
            <a:solidFill>
              <a:srgbClr val="0000ff">
                <a:alpha val="62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01160" y="449568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parq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20080" y="45720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DAS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880" y="449568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parq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1240" y="419112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parq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lexible hypernormalized schem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rformance penalt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o much freedom expression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ntologies + reasoners provide some constraints; eg S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pen world assump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ederation vs tight integr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ight integration is required for MO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s more data types become available dynamic integration will be ke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DF and SPARQL is one solu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hengqiang Shu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ark Gibs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Nicole Washingt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th Carb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John Day Richt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hris Smith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aren Eilbeck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ma Misr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uzanna Lewi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048120" y="1981080"/>
            <a:ext cx="3124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lyBas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ave Emmer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inglei Zhou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eili Zhan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ubrey de Gre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aul Leylan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illiam Gelbar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HM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Gerry Rubi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MOD, Ne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cott C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hel Merch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ric J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erra Mox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drew Uzil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rian Osbo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an Hol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ncoln S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16360" y="29098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Feature localisa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terbas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plifies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ll localisations relativ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Location Graph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LG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ursive/nested locations allowe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835440" cy="1663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495680" y="3733920"/>
            <a:ext cx="41655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Recursive location graph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cations can be nest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nished genomes typically flat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pth(LG)=1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512640" indent="-19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Unfinished genomes, heterochromatin may require 2 (rarely more) level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788400" indent="-157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features located relative to contig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788400" indent="-157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Contigs related relative to chrmosom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512640" indent="-19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ay be a requirement to change coordinates at each level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independentl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Nested LG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57200" y="2743200"/>
          <a:ext cx="7238880" cy="1306440"/>
        </p:xfrm>
        <a:graphic>
          <a:graphicData uri="http://schemas.openxmlformats.org/drawingml/2006/table">
            <a:tbl>
              <a:tblPr/>
              <a:tblGrid>
                <a:gridCol w="1824120"/>
                <a:gridCol w="1824120"/>
                <a:gridCol w="2371680"/>
                <a:gridCol w="1218960"/>
              </a:tblGrid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ea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rcfea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on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0..200[+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tig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tig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000..13000[+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rom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on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100..13100[+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rom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1463400" y="5008680"/>
            <a:ext cx="667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t localisations can be used to ‘flatten’ 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&gt;0 indicates denormalised/flattened 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ust be recalculated if group=0 coordinates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Relational featureloc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relation between two or more loc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atches, sequence variant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ndicated using rank colum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 case: SNP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mple way to query for variants introducing premature termination of transl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ombine relational featurelocs and redundant featureloc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3+ featureloc pairs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equence of SNP on reference and variant genome (+ location on reference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ame on transcript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ame on polypeptid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WL entailment genomics use cas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 defines ‘TE gene’ a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SO:gene which is part_of a SO: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 OWL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ass(TE_Gene complete Gene part_of(TE)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sult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Queries for ‘SO:TE_gene’ return features not explicitly annotated as such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pare: Chad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quivalent rules to be add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ostgreSQL functions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boedit reasoner adapter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 brief introduction to MOD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Model Organism Database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lyBase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(D melanogaster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ormBase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(C elegan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GD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(M musculu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does a MOD organisation d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urate and integrate data on a specific species or tax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vide a web portal for the communit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are the database requirements for a MOD?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352680" y="2057400"/>
            <a:ext cx="5372280" cy="4317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ust store representations of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genes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genomic entit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2895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quence dat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xon-intron structur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Noncoding gen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urated and computed featur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ntities with unusual transcriptional properti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nd more…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ust store other data types pertinent to that organism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cluding, but not limited to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etic and phenotypi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riorities amongst MODs diff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ifferent MOs have different biological and experimental characteristic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.g.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D melanogaster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and genetics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9144000" cy="31975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ust house rich annotation data using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ontologies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O (Gene Ontology); Anatomical Ontologies; Phenotype Ontolog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3994200" cy="51814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ust track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provenance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evidence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for data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339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D data is often curated from th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literatur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ther sour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Comput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High throughput dat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Imag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85800" y="4952880"/>
            <a:ext cx="3200400" cy="1676160"/>
            <a:chOff x="685800" y="4952880"/>
            <a:chExt cx="3200400" cy="167616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756360" y="4952880"/>
              <a:ext cx="2939400" cy="158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85800" y="5476680"/>
              <a:ext cx="3200400" cy="1082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3"/>
            <a:stretch/>
          </p:blipFill>
          <p:spPr>
            <a:xfrm>
              <a:off x="756360" y="5507280"/>
              <a:ext cx="2916000" cy="112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ust be an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integrated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source of data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ust drive Web Porta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ww.flybase.or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www.wormbase.or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Gill Sans"/>
                <a:hlinkClick r:id="rId3"/>
              </a:rPr>
              <a:t>http://www.yeastgenome.or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Links out to external resourc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O, Ensembl, UniProt, …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ubstantial amount of records manag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locall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in single integrated databa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 Mungall</cp:lastModifiedBy>
  <dcterms:modified xsi:type="dcterms:W3CDTF">2006-11-16T16:33:02Z</dcterms:modified>
  <cp:revision>146</cp:revision>
  <dc:subject/>
  <dc:title>Chado: evolution of a biological database LONG VERSION</dc:title>
</cp:coreProperties>
</file>